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62589"/>
        <c:axId val="21370724"/>
      </c:barChart>
      <c:catAx>
        <c:axId val="80462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0724"/>
        <c:crosses val="autoZero"/>
        <c:auto val="1"/>
        <c:lblAlgn val="ctr"/>
        <c:lblOffset val="100"/>
        <c:noMultiLvlLbl val="0"/>
      </c:catAx>
      <c:valAx>
        <c:axId val="21370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62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44E-FF4C-4B26-9409-04D0F8C0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0E2-9C10-4AAB-B90C-4C2B989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DCF-5F14-41F1-9187-00B365D1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603-14B2-450E-8E77-913521B9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EAA-A696-4A1A-9903-199B83E2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EF6-9830-404C-A8FE-EADA293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0BF-B762-44AF-A36D-83B52B56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93C-562C-48E3-8075-8F861C3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C12-010F-4FA0-B7A9-4DD1FEFD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F46-0472-412C-9522-7591B83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31C-DF09-4049-9662-9E8A87F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2DA-C55C-4E03-879C-202B1A2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D3511-84C5-4F16-BA3B-143C1AE104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