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36043"/>
        <c:axId val="90455977"/>
      </c:barChart>
      <c:catAx>
        <c:axId val="75336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5977"/>
        <c:crosses val="autoZero"/>
        <c:auto val="1"/>
        <c:lblAlgn val="ctr"/>
        <c:lblOffset val="100"/>
        <c:noMultiLvlLbl val="0"/>
      </c:catAx>
      <c:valAx>
        <c:axId val="90455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36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9DA-3AC6-4E5E-80FD-B1B2978C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78F-D669-4545-9EEE-6FED7E0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917-D017-4898-BBC1-F9042201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5DF-41F9-40D5-8046-A994A33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CCA-853C-4C51-87F3-22F28AE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97F-3CBB-4641-A9EA-FFABD09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A3A-4F58-428E-BE3D-4354087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11C-38A7-4262-9594-F16BA84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BA2-7252-4F6D-A952-FA375BEE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B65-D2DC-49E5-B591-7B6B9D6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50D-10B7-4F6C-BE6A-AAA4D64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356-7603-4D46-91FB-485A5B2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403A6-7C0E-4E34-9CCD-3DA0E5B52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