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80848"/>
        <c:axId val="18077896"/>
      </c:barChart>
      <c:catAx>
        <c:axId val="11180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77896"/>
        <c:crosses val="autoZero"/>
        <c:auto val="1"/>
        <c:lblAlgn val="ctr"/>
        <c:lblOffset val="100"/>
        <c:noMultiLvlLbl val="0"/>
      </c:catAx>
      <c:valAx>
        <c:axId val="18077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0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621-826F-465A-A245-41FBAD85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561-DF95-4B2B-8158-C5699A54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F0A-58F2-4C8A-80E0-D6DE21AF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9FE-B106-4066-A9E9-D53F66CA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101-37BA-42C2-9C7A-9E62F095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4C7-4379-4582-A107-56BA5798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C4C-47F0-48E8-9FD7-08696A7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75B-1E3F-4C3D-A691-B671EFDD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EFC-4118-4F9E-93A5-D1DDA204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E14-6FDC-477A-BC94-0DE0A143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D33-DA04-4294-BE79-52B0048B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61B-A2B6-4D98-ADD4-FE35ECAF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C6340-4ED4-48F4-8301-6BD3575DC7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