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34794"/>
        <c:axId val="39926342"/>
      </c:barChart>
      <c:catAx>
        <c:axId val="44134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26342"/>
        <c:crosses val="autoZero"/>
        <c:auto val="1"/>
        <c:lblAlgn val="ctr"/>
        <c:lblOffset val="100"/>
        <c:noMultiLvlLbl val="0"/>
      </c:catAx>
      <c:valAx>
        <c:axId val="39926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4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74B-A27A-4400-B2DD-6E8D45AB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7CD-17DB-4988-B44B-D04E5A96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CCF-A972-4B1D-9BF0-916785A4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523-1F1A-4D36-A662-32858A9C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314-A35F-4A74-9EC6-9C83A94F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C7F-5793-4EFE-B2DB-7BD3DB1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E47-0768-4636-8E3F-9F0C392C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978-B756-426D-B781-3BEBFF2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3F1-3761-4BA5-A22E-A5B81D2F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263-04BF-4FFB-A3FA-ACE67B8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A4E-DBD0-4313-950A-DA82892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D6D-B4A7-4E96-ACB1-D1C5C15F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A849-6FA3-498A-A8B3-6039483F66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