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36722"/>
        <c:axId val="56164726"/>
      </c:barChart>
      <c:catAx>
        <c:axId val="41336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64726"/>
        <c:crosses val="autoZero"/>
        <c:auto val="1"/>
        <c:lblAlgn val="ctr"/>
        <c:lblOffset val="100"/>
        <c:noMultiLvlLbl val="0"/>
      </c:catAx>
      <c:valAx>
        <c:axId val="56164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36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BEB-6753-4986-BABA-E05AE34D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7D5-2AEB-426E-80B1-B108FC76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CBD-1B7E-4EE5-93B2-462EDE46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963-E241-42FD-AD56-EA8071F3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0D6-5471-45AD-A73E-BD8451D7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814-7006-43FA-9C46-602486ED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EAB-944A-46C8-BD80-9CC3E330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4AA-05A0-47B9-A4CD-EE11EA4C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1F1-42F8-4B8A-A0F4-8C6B0584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037-621A-4798-8D9F-6495DE24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A0E-D728-44A0-A958-CFEFF5D9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714-4E9D-4028-8DA2-2C05455E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2FCB9-08D5-4C5C-9C25-FE2E8CCE06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